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264-4BBD-44DA-8B9E-DF02F04E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258-66B8-4819-B062-FFACBC43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00A-124F-46C6-88E1-2E5414EA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55E-D2AB-4EBE-8C47-8F2A9B15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B2B0-B10F-4102-91D4-EDEA809C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2C68-B04E-4E1C-901C-D5C0883D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239-E097-4002-8322-299363C0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BBBA-2A2D-4672-9DAA-C798B320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0D74-E101-46AF-90AE-90279974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BF63-85C6-430A-91CB-F4637A9A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0919-5A58-4EAE-A3DC-9822F288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23F-5C5C-4A03-B5B7-5A5B3430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63F1-3912-4C9E-BA65-0E3AC82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BEA6-B7D4-4FE2-B956-A792FF5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2C1-FD7F-4177-9E14-4B6CBD3B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047E-DFCB-4E80-AE72-39F5E117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6C62-AD3F-4AD0-9641-0E32EEDC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72F-2799-491C-816F-BE9FD90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42C-1FB2-497F-8AF7-07FDD643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8E6-931E-473D-B850-141EDB90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2AB-C094-4C27-A2B9-A3A8330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AB6-2554-4915-A6C8-D5CF00D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2F4-88E5-43B9-BB76-C1116D0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641-5F60-4B9B-AFE6-1DCB1336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9C57-A384-4775-BED5-42B25F66FBF0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C2D8-198A-410C-A3A2-6491A9B82855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package" Target="../embeddings/oleObject1.docx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590920" y="259092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American Typewriter"/>
              </a:rPr>
              <a:t>The Menshevik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American Typewriter"/>
              <a:ea typeface="American Typewriter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657600" y="4267080"/>
            <a:ext cx="18414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3-1917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o were they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sheviks means minor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aders: Julius Martov (top), Pavel Axelrod (left), Alexander Martinov (righ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riginally part of the Social Democratic Labor Par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1739880" cy="243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4419720"/>
            <a:ext cx="17478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6858000" y="4419720"/>
          <a:ext cx="1447920" cy="2438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4419720"/>
                    <a:ext cx="14479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were they formed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</a:rPr>
              <a:t>An argument occurred between two of the Social Democratic Labor Party leaders (Vladimir Lenin, Julius Martov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</a:rPr>
              <a:t>When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</a:rPr>
              <a:t>During congress at London in 1903 on how to bring about the revolution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</a:rPr>
              <a:t>Martov won the vote and Lenin formed his own group instead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16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lief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Large party of activis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Menshevik vision: democratic revolution where they were part of the governmen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Based ideas on other European Socialist Parti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Believed Russia was not developed enough for socialis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Difference from Bolshevism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small party of professional revolutionari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Working class should lead the revolution with the peasantry to create a democratic dictatorship of working classes, peasantry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vents after the 1903 Spli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Many Mensheviks left the party after the 1905 revolution failure to join more legal organization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The Bolsheviks tried to take control of the SDLP during conference on January 1912. This was unsuccessful and the Mensheviks split completely from the Bolshevik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The Mensheviks lost the support of the Russian people during the events of 1917, obtaining the lowest amount of votes at the electio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400800" y="5059440"/>
            <a:ext cx="2743200" cy="1798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441972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09-18T01:19:45Z</dcterms:modified>
  <cp:revision>2</cp:revision>
  <dc:subject/>
  <dc:title>PowerPoint Presentation</dc:title>
</cp:coreProperties>
</file>